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10A-813B-4055-8964-994383AB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FEC-7B5D-4C6A-874C-A1CE4138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BFF-8665-4815-AFF8-B07B3BF2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00A-D00D-4FE9-995A-F8A43D70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766-99BB-417B-80BE-6FF2C94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9CF-6ABC-4EAC-991B-A9CC784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63A-132B-4D31-A68F-5C1B3D5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D7D-C0BC-4DAD-8DD9-A70E5B9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B50-216E-48BC-9C02-058B9A8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5B6-59DD-430B-9F48-6518437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EA0-6D56-4964-9654-034174C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4E6-D5C7-4A49-ACD5-43F1C01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4C78-D815-445A-8C3F-D30C364A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414600" y="2789280"/>
            <a:ext cx="23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etorphi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05:02Z</dcterms:created>
  <dc:creator>jooho.kim</dc:creator>
  <dc:description/>
  <dc:language>en-US</dc:language>
  <cp:lastModifiedBy>jooho.kim</cp:lastModifiedBy>
  <dcterms:modified xsi:type="dcterms:W3CDTF">2009-11-24T07:05:07Z</dcterms:modified>
  <cp:revision>1</cp:revision>
  <dc:subject/>
  <dc:title>Slide 1</dc:title>
</cp:coreProperties>
</file>